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680-285E-45F1-A68A-9899D01B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C6F-D614-4E87-8E6E-7864DE38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52F-BDB1-4C72-8207-B3026E52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05B-0B6C-4AA8-BCB2-BF9B05F8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512-01EA-420F-A2E8-08903953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87C-22C3-4174-AE2C-F2FFAC09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AC6-BFA1-45E6-A2D2-8894EE30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125-453A-46EA-93A0-1EF632DD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8FC-2019-4486-9C99-14131E2A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002-87EB-42E5-BBA3-B1BF1C8F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06E-47BB-4153-A09F-37A9FC50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469-CB03-47A7-B7FD-681D4030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61FC-45EF-42C2-A9AE-A784EE9A0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304200"/>
            <a:ext cx="583272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333399"/>
                </a:solidFill>
                <a:latin typeface="Arial"/>
              </a:rPr>
              <a:t>Esto ocurre cada 3000 años</a:t>
            </a:r>
            <a:r>
              <a:rPr b="0" lang="es-AR" sz="1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Es una foto que se sacó gracias a un telescopio de la NASA. Se le conoce como “Ojo de Dios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Esta foto hace milagros en las vidas de muchas personas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Quien mire la foto seguro tendrá un cambio positivo en sus vidas, aún para quien no crea en esto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No retengan este mail, envíenlo a 7 personas por lo menos que quieran su b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496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sa Evangelina Aguilera Carbajal</cp:lastModifiedBy>
  <dcterms:modified xsi:type="dcterms:W3CDTF">2005-04-05T17:45:58Z</dcterms:modified>
  <cp:revision>5</cp:revision>
  <dc:subject/>
  <dc:title>Sin título de diapositiva</dc:title>
</cp:coreProperties>
</file>