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9D5-545B-4BC7-A6CC-8AA5A092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B22-82A5-45ED-9FB4-F79E778B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64B-0E36-4C14-BBB1-B7E0ACBE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5AB-79ED-480A-A6E8-CBA516CD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1E85-C02D-4545-A2DC-37B83EF8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579F-77D5-42D2-86AE-9B698F07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7955-15B5-499E-AF72-5DAC6587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4BBD-8E1B-4932-B8D2-19011E9F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7B49-0355-4CB5-BC6E-83DD5EAF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970B-ECA5-459E-AEB3-D62EADB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044C-8FAF-4108-9070-AC05A5B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E12-EC55-49E2-8F6C-BF981765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8E91-90B8-41E7-B95E-17EDD2A4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9C14-4AE1-454D-A0BE-99CC2870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4170-3C7D-4364-983B-4DBFD323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0307-7144-425C-9A59-262DB34B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EF19-7BF8-48ED-A89B-165AE587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D47-3E5F-439F-9D9B-F69E68C7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A04-34F6-4BE4-BB6E-4E05BE1A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0E9-B494-490A-9F20-574A20B8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EE8-F88C-4680-8780-573B591D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DAF-CF0D-4934-84EE-2D13C125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480-337E-4E30-818F-C51A038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C72-802B-4CF8-897D-4E12978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AEC9-19B2-40DD-8E01-CA44D22E535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A409-D097-4831-B6B1-525389C761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Times New Roman"/>
              </a:rPr>
              <a:t>HAZ DE MÍ, SEÑOR, UN INSTRUMENTO DE TU PA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423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nde haya odi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nga yo a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nde haya miseri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nga lib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nde haya pobrez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nga desarro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nde haya ignoranci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nga edu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ladelgadalinearoja%20pelo" descr=""/>
          <p:cNvPicPr/>
          <p:nvPr/>
        </p:nvPicPr>
        <p:blipFill>
          <a:blip r:embed="rId1"/>
          <a:srcRect l="0" t="16670" r="0" b="0"/>
          <a:stretch/>
        </p:blipFill>
        <p:spPr>
          <a:xfrm>
            <a:off x="5029200" y="2174760"/>
            <a:ext cx="3745080" cy="3886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ffff"/>
                </a:solidFill>
                <a:latin typeface="Times New Roman"/>
              </a:rPr>
              <a:t>Lo dijo nuestro Señor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emigrantes" descr=""/>
          <p:cNvPicPr/>
          <p:nvPr/>
        </p:nvPicPr>
        <p:blipFill>
          <a:blip r:embed="rId1"/>
          <a:stretch/>
        </p:blipFill>
        <p:spPr>
          <a:xfrm>
            <a:off x="1523880" y="4114800"/>
            <a:ext cx="3200400" cy="1943280"/>
          </a:xfrm>
          <a:prstGeom prst="rect">
            <a:avLst/>
          </a:prstGeom>
          <a:ln w="0">
            <a:noFill/>
          </a:ln>
        </p:spPr>
      </p:pic>
      <p:pic>
        <p:nvPicPr>
          <p:cNvPr id="175" name="guerra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3200400" cy="1943280"/>
          </a:xfrm>
          <a:prstGeom prst="rect">
            <a:avLst/>
          </a:prstGeom>
          <a:ln w="0">
            <a:noFill/>
          </a:ln>
        </p:spPr>
      </p:pic>
      <p:pic>
        <p:nvPicPr>
          <p:cNvPr id="176" name="entierro" descr=""/>
          <p:cNvPicPr/>
          <p:nvPr/>
        </p:nvPicPr>
        <p:blipFill>
          <a:blip r:embed="rId3"/>
          <a:stretch/>
        </p:blipFill>
        <p:spPr>
          <a:xfrm>
            <a:off x="533520" y="0"/>
            <a:ext cx="3200400" cy="1943280"/>
          </a:xfrm>
          <a:prstGeom prst="rect">
            <a:avLst/>
          </a:prstGeom>
          <a:ln w="0">
            <a:noFill/>
          </a:ln>
        </p:spPr>
      </p:pic>
      <p:pic>
        <p:nvPicPr>
          <p:cNvPr id="177" name="Copia%20de%20refugiados" descr=""/>
          <p:cNvPicPr/>
          <p:nvPr/>
        </p:nvPicPr>
        <p:blipFill>
          <a:blip r:embed="rId4"/>
          <a:stretch/>
        </p:blipFill>
        <p:spPr>
          <a:xfrm>
            <a:off x="4495680" y="3429000"/>
            <a:ext cx="3200400" cy="1943280"/>
          </a:xfrm>
          <a:prstGeom prst="rect">
            <a:avLst/>
          </a:prstGeom>
          <a:ln w="0">
            <a:noFill/>
          </a:ln>
        </p:spPr>
      </p:pic>
      <p:pic>
        <p:nvPicPr>
          <p:cNvPr id="178" name="Copia%20de%20Irlanda" descr=""/>
          <p:cNvPicPr/>
          <p:nvPr/>
        </p:nvPicPr>
        <p:blipFill>
          <a:blip r:embed="rId5"/>
          <a:stretch/>
        </p:blipFill>
        <p:spPr>
          <a:xfrm>
            <a:off x="5943600" y="491508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79" name="niños" descr=""/>
          <p:cNvPicPr/>
          <p:nvPr/>
        </p:nvPicPr>
        <p:blipFill>
          <a:blip r:embed="rId6"/>
          <a:stretch/>
        </p:blipFill>
        <p:spPr>
          <a:xfrm>
            <a:off x="5791320" y="0"/>
            <a:ext cx="3352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Nenúfares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19320" y="129528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8380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0"/>
            <a:ext cx="8763120" cy="679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Times New Roman"/>
              </a:rPr>
              <a:t>HAZ DE MÍ, SEÑOR, 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ffff00"/>
                </a:solidFill>
                <a:latin typeface="Times New Roman"/>
              </a:rPr>
              <a:t>UN INSTRUMENTO DE TU PAZ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Times New Roman"/>
              </a:rPr>
              <a:t>HAZ DE MÍ, SEÑOR, UN INSTRUMENTO DE TU PA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nde haya problemas, ponga cerc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nde haya violencia, ponga pa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nde haya conflicto, ponga diálo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nde haya armas, ponga ali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nde haya enfermedades, ponga cu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nde haya paro, ponga yo empre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nde haya muerte ponga resurre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Times New Roman"/>
              </a:rPr>
              <a:t>HAZ DE MÍ, SEÑOR, UN INSTRUMENTO DE TU PA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Que no busque mi comodidad, sino el servic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Que no sea irresponsable ante el herma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No vea al otro como un rival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sino como algo mí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560" y="1946160"/>
            <a:ext cx="406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No vea al otro como un cualquiera, porque es sag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Que no lo humille o menospreci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porque es otro cri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Times New Roman"/>
              </a:rPr>
              <a:t>HAZ DE MÍ, SEÑOR, UN INSTRUMENTO DE TU PA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30720" y="194616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orque es pacificando como se conquist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Irlanda" descr=""/>
          <p:cNvPicPr/>
          <p:nvPr/>
        </p:nvPicPr>
        <p:blipFill>
          <a:blip r:embed="rId1"/>
          <a:stretch/>
        </p:blipFill>
        <p:spPr>
          <a:xfrm>
            <a:off x="1170000" y="2846520"/>
            <a:ext cx="38116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Times New Roman"/>
              </a:rPr>
              <a:t>HAZ DE MÍ, SEÑOR, UN INSTRUMENTO DE TU PA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irviendo com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e rei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reyes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543744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Times New Roman"/>
              </a:rPr>
              <a:t>HAZ DE MÍ, SEÑOR, UN INSTRUMENTO DE TU PA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Compartiendo como te enrique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refugiados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5410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Times New Roman"/>
              </a:rPr>
              <a:t>HAZ DE MÍ, SEÑOR, UN INSTRUMENTO DE TU PAZ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Saliendo de ti como te encuentr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riodista" descr=""/>
          <p:cNvPicPr/>
          <p:nvPr/>
        </p:nvPicPr>
        <p:blipFill>
          <a:blip r:embed="rId1"/>
          <a:stretch/>
        </p:blipFill>
        <p:spPr>
          <a:xfrm>
            <a:off x="380880" y="2881440"/>
            <a:ext cx="54864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Times New Roman"/>
              </a:rPr>
              <a:t>Cargando con el otr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8288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como te aliv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educación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534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ffff"/>
                </a:solidFill>
                <a:latin typeface="Times New Roman"/>
              </a:rPr>
              <a:t>es perdiendo como gan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42640" y="55627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y es muriendo como viv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el%20viejo%20y%20el%20mar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391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0:21:10Z</dcterms:created>
  <dc:creator>Gonzalo</dc:creator>
  <dc:description/>
  <dc:language>en-US</dc:language>
  <cp:lastModifiedBy>Pedro</cp:lastModifiedBy>
  <dcterms:modified xsi:type="dcterms:W3CDTF">2003-08-08T16:07:10Z</dcterms:modified>
  <cp:revision>7</cp:revision>
  <dc:subject/>
  <dc:title>HAZ DE MÍ, SEÑOR, UN INSTRUMENTO DE TU PAZ</dc:title>
</cp:coreProperties>
</file>