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ndicemeSr-amazinggrac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4E3-D08A-464D-9A5F-3D572F47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BF8-129F-4603-B603-E0E39BD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04A-9DD9-479D-BCB7-AFC0AB3F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B71-1108-4ABC-9B0B-2AB3FB48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236-790A-4CAB-A967-1F88B68A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D7E-BBBA-4BA5-BC89-4F024FC4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B1A-8A5B-4645-91B7-FDB0FF3D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4FD-B652-4318-BC83-6FD2E5A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F22-34EF-4386-A88C-28AE674B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644-F317-48CA-8FE1-8A2DCE1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406-85CB-4D42-AEF3-39AEC0F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0EE-8E0E-4D0B-8BEA-499D7B29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0D7-147B-4B74-9944-45A7977AE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ndicemeSr-amazinggrac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43640"/>
            <a:ext cx="8062920" cy="31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empus Sans ITC"/>
              </a:rPr>
              <a:t>BENDÍCEME, SEÑOR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480" y="5661000"/>
            <a:ext cx="52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n el sonido y no uses el ratón, déjate llev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fade thruBlk="true"/>
    <p:sndAc>
      <p:stSnd>
        <p:snd r:embed="rId2" name="BendicemeSr-amazinggr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407664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Tempus Sans ITC"/>
              </a:rPr>
              <a:t>Señor, bendice mis manos</a:t>
            </a:r>
            <a:br>
              <a:rPr sz="2800"/>
            </a:br>
            <a:r>
              <a:rPr b="1" i="1" lang="es-ES" sz="2800" spc="-1" strike="noStrike">
                <a:solidFill>
                  <a:srgbClr val="ffff00"/>
                </a:solidFill>
                <a:latin typeface="Tempus Sans ITC"/>
              </a:rPr>
              <a:t>para que sean delic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Tempus Sans ITC"/>
                <a:ea typeface="ＭＳ Ｐゴシック"/>
              </a:rPr>
              <a:t>y sepan tomar sin jamás aprisionar,</a:t>
            </a:r>
            <a:br>
              <a:rPr sz="2800"/>
            </a:br>
            <a:r>
              <a:rPr b="1" i="1" lang="es-ES" sz="2800" spc="-1" strike="noStrike">
                <a:solidFill>
                  <a:srgbClr val="ffff00"/>
                </a:solidFill>
                <a:latin typeface="Tempus Sans ITC"/>
                <a:ea typeface="ＭＳ Ｐゴシック"/>
              </a:rPr>
              <a:t>que sepan dar sin calcular</a:t>
            </a:r>
            <a:br>
              <a:rPr sz="2800"/>
            </a:br>
            <a:r>
              <a:rPr b="1" i="1" lang="es-ES" sz="2800" spc="-1" strike="noStrike">
                <a:solidFill>
                  <a:srgbClr val="ffff00"/>
                </a:solidFill>
                <a:latin typeface="Tempus Sans ITC"/>
                <a:ea typeface="ＭＳ Ｐゴシック"/>
              </a:rPr>
              <a:t>y tengan la fuerza de bendecir y consolar.</a:t>
            </a:r>
            <a:r>
              <a:rPr b="1" lang="es-ES" sz="2800" spc="-1" strike="noStrike">
                <a:solidFill>
                  <a:srgbClr val="ffff00"/>
                </a:solidFill>
                <a:latin typeface="Tempus Sans ITC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2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2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2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3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2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4365720"/>
            <a:ext cx="8229600" cy="20682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Señor, bendice mis ojo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para que sepan ver la necesidad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y no olviden nunca lo que a nadie deslumbra; 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que vean detrás de la superficie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para que los demás se sientan felic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por mi modo de mirar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39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280" y="2997360"/>
            <a:ext cx="6697800" cy="360360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Señor, bendice mis oíd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para que sepan oír tu voz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y perciban muy clarament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el grito de los afligidos;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que sepan quedarse sord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al ruido inútil y a la palabrería,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pero no a las voces que llaman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y piden que las oigan y comprendan,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empus Sans ITC"/>
                <a:ea typeface="ＭＳ Ｐゴシック"/>
              </a:rPr>
              <a:t>aunque turben mi comodidad.</a:t>
            </a:r>
            <a:r>
              <a:rPr b="1" lang="es-ES" sz="3200" spc="-1" strike="noStrike">
                <a:solidFill>
                  <a:srgbClr val="333399"/>
                </a:solidFill>
                <a:latin typeface="Tempus Sans ITC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6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2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3716280"/>
            <a:ext cx="7632720" cy="2781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Señor, bendice mi b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para que dé testimonio de 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y no diga nada que hiera o destruy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que sólo pronuncie palabras que alivi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que nunca traicione confidencias y secre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empus Sans ITC"/>
                <a:ea typeface="ＭＳ Ｐゴシック"/>
              </a:rPr>
              <a:t>que consiga despertar sonris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8000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8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96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48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3141720"/>
            <a:ext cx="77774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empus Sans ITC"/>
                <a:ea typeface="ＭＳ Ｐゴシック"/>
              </a:rPr>
              <a:t>Señor, bendice mi corazón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empus Sans ITC"/>
                <a:ea typeface="ＭＳ Ｐゴシック"/>
              </a:rPr>
              <a:t>para que sea templo vivo de tu Espíritu 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empus Sans ITC"/>
                <a:ea typeface="ＭＳ Ｐゴシック"/>
              </a:rPr>
              <a:t>y sepa dar calor y refugio;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empus Sans ITC"/>
                <a:ea typeface="ＭＳ Ｐゴシック"/>
              </a:rPr>
              <a:t>que sea generoso en perdonar y comprender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empus Sans ITC"/>
                <a:ea typeface="ＭＳ Ｐゴシック"/>
              </a:rPr>
              <a:t>y aprenda a compartir dolor y alegría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Tempus Sans ITC"/>
                <a:ea typeface="ＭＳ Ｐゴシック"/>
              </a:rPr>
              <a:t>con un gran amor.</a:t>
            </a:r>
            <a:r>
              <a:rPr b="1" lang="es-ES" sz="3200" spc="-1" strike="noStrike">
                <a:solidFill>
                  <a:srgbClr val="000000"/>
                </a:solidFill>
                <a:latin typeface="Tempus Sans ITC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52040"/>
            <a:ext cx="822960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Dios mío, que puedas disponer de mí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con todo lo que so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con todo lo que tengo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59:07Z</dcterms:created>
  <dc:creator>ERNESTO</dc:creator>
  <dc:description/>
  <dc:language>en-US</dc:language>
  <cp:lastModifiedBy>Silvia Rozas Barrero</cp:lastModifiedBy>
  <dcterms:modified xsi:type="dcterms:W3CDTF">2006-11-07T23:55:04Z</dcterms:modified>
  <cp:revision>9</cp:revision>
  <dc:subject/>
  <dc:title>Bendice mis manos Autor:  Sabine Naegeli </dc:title>
</cp:coreProperties>
</file>